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F85D-87A8-49F7-B5CD-AF9B07D7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3DAB-181F-440D-990C-ECA8A97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D909-0C35-4B82-B6A8-25BD885D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703E-9BC8-4189-86AE-7058E5EA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214-582D-4A45-8EA5-4B0C30E5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AFE0-051E-4816-BEAC-3135868B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BD89-557B-4AB9-9959-7464124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C76F-E8FE-4442-8303-2A032F8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C19D-66F9-4CCE-9230-1A22345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8FF-F4BA-4088-9C1F-F065B96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AFD1-3633-43D1-A2B0-06ACEC5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6C20-2817-4E52-AF29-78334DB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3B4B-A482-4FC3-9D31-C914C35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26C2-C961-47A2-950D-C8598DE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9E02-6EC1-4BBC-9271-689D506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E67A-C629-442D-B823-B8A853F4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D64-B46D-4959-86D7-47C264AA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0BDA-5DCC-440C-9B83-9C53733A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BD7D-CD6B-46D8-A66E-ECCCDC9B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4FEC-A6D6-4054-B618-5463F382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8ECF-3D66-4074-BE29-31C98486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DD43-52B1-4C0B-A541-BF9D10A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CEFD-6424-48E6-BB91-48C6E4E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2968-8077-4BCA-BBE7-82CB65CD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56C-181C-4702-967D-C18CD595D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FA8-2EF9-4E96-81D7-55B357789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fel de motor foloseau bunicii pentru trenurile 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arele automobile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istă mai multe tipuri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marius</cp:lastModifiedBy>
  <dcterms:modified xsi:type="dcterms:W3CDTF">2010-04-13T17:45:18Z</dcterms:modified>
  <cp:revision>4</cp:revision>
  <dc:subject/>
  <dc:title>Petrolul mişcă omenirea</dc:title>
</cp:coreProperties>
</file>